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C114D-0DCC-41DB-9E9F-B15B097C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668D-D00A-41DE-B9EF-9662D624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B1C4-D72D-481C-93D3-0F7996D6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36A6-6990-4814-8D80-917BE655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BDFC-3DEB-4AB1-AB30-E6E67D31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0AA3-8BBF-46C0-BCB0-E360EB82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D804-0C31-41AC-8E6C-4986DC3F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DE12-E251-4FDF-9CAA-4CECEBED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21D2-B97E-4249-8192-BCD4F385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B188-09F1-46C3-A015-ED8BCE8C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37C0-1FD7-4B2C-8986-55DF9D10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5B133-C4B9-4675-90F6-B4BF4054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96D6-CF4A-478A-ABD5-A0E74FC4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5A66-1A9F-42CF-9F66-A709C1BD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35DA-0E96-442D-8CB6-03D92685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797B-CB33-4D1F-BCA4-DCC711E6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291C-5EA6-4232-98B6-F425B15B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66896-DCD4-4F5C-9BA4-6726856E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F7B0-9D1F-43A4-940C-CECF8062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4B2F2-CC96-4937-9A2B-654369AF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333D6-00C8-4A38-B4B5-A6FC31E2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DA22C-537C-47F4-BAD3-98DEE879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8BD2-58E0-449A-BB8D-361A448A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4A00-7421-4927-AC2F-4B3083E2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9401-B76F-42E0-833C-9568776406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7CC1-5C2E-4F18-8614-2BB93D0C3F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77A3-C583-48B4-AFE4-D76715BAEF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4640" y="1733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the ciphertext matrix was created by multiplying the plaintext matrix by the key matrix 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key matrix can be recovered if we know the inverse of the plaintext matri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33796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 = M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0920" y="5484960"/>
            <a:ext cx="257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 = M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8680" y="5513400"/>
            <a:ext cx="436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Process:  Find the inverse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the known plaintext, multip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it times a segment of ciphertex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and check the resulting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1B32B-7D6C-40CA-948E-A433D6C4B0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7480" y="1722600"/>
            <a:ext cx="7380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 Hill cipher by hand is very time consuming however CAP will automate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35320" y="3297240"/>
            <a:ext cx="5648040" cy="35607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7288200" y="3056040"/>
            <a:ext cx="1533600" cy="723960"/>
            <a:chOff x="7288200" y="3056040"/>
            <a:chExt cx="1533600" cy="723960"/>
          </a:xfrm>
        </p:grpSpPr>
        <p:sp>
          <p:nvSpPr>
            <p:cNvPr id="124" name=""/>
            <p:cNvSpPr/>
            <p:nvPr/>
          </p:nvSpPr>
          <p:spPr>
            <a:xfrm>
              <a:off x="7288200" y="30560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8320" y="3203640"/>
              <a:ext cx="1471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your best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uess for the 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30680" y="3027240"/>
            <a:ext cx="1539360" cy="723960"/>
            <a:chOff x="4630680" y="3027240"/>
            <a:chExt cx="1539360" cy="723960"/>
          </a:xfrm>
        </p:grpSpPr>
        <p:sp>
          <p:nvSpPr>
            <p:cNvPr id="127" name=""/>
            <p:cNvSpPr/>
            <p:nvPr/>
          </p:nvSpPr>
          <p:spPr>
            <a:xfrm>
              <a:off x="4630680" y="30272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90800" y="3174840"/>
              <a:ext cx="147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a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laintex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040440" y="4151160"/>
            <a:ext cx="1533600" cy="723600"/>
            <a:chOff x="6040440" y="4151160"/>
            <a:chExt cx="1533600" cy="723600"/>
          </a:xfrm>
        </p:grpSpPr>
        <p:sp>
          <p:nvSpPr>
            <p:cNvPr id="130" name=""/>
            <p:cNvSpPr/>
            <p:nvPr/>
          </p:nvSpPr>
          <p:spPr>
            <a:xfrm>
              <a:off x="6040440" y="4151160"/>
              <a:ext cx="1533600" cy="72360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30080" y="4184280"/>
              <a:ext cx="1352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y the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eys until one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4F1E-E668-42E4-849A-7590850F0A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6T23:19:17Z</dcterms:modified>
  <cp:revision>69</cp:revision>
  <dc:subject/>
  <dc:title>CAP Cryptographic Analysis Program</dc:title>
</cp:coreProperties>
</file>